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EE0-7718-4A3C-9D03-782358E7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821-1C4E-40ED-AF51-48D493F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AA6-26BE-454E-BAAB-43AC209B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194-B18F-4D55-84D1-90BEC16D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6115-DDBA-469B-8ED4-BAC4D08F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677-07ED-41CA-A098-80D8FF35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33F-EEED-4879-B52A-F58D4C63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8A96-C0CA-4859-8164-CDF23A23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CC0-8C56-47DE-B461-72ED37F5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EAF-18CE-4CB0-9CA0-D76CD96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A81-7994-4953-A402-13D5664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460-6D74-42DF-AB33-82C940B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AE1-4607-462B-A463-D0014536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A32D-1E23-456A-8B78-C7C077B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627D-D8C9-47CB-B378-E170C20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AC54-8CF5-4542-97C6-3126E913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71B-204C-4494-A873-45D68895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382-ACB9-4B3B-A310-7C17133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C3D-2E85-4E48-B5AC-B88F5DA8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735-DE7F-4126-B947-FC074D23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0AD-4478-4314-9155-BBFD3D0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FC0-1B66-4191-9C8D-DB52D56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621-538A-4E18-A0BD-99D4CB9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013-4180-406F-A3A8-3CC1C3D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90E3-905A-4A34-9668-4C10BD22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C6A-A758-4DFB-B3D8-7256FA4C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pennmuseum.com/cuneiform.cgi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MESOPOTAMIA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sentation about the FIRST ancient civ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unB" descr=""/>
          <p:cNvPicPr/>
          <p:nvPr/>
        </p:nvPicPr>
        <p:blipFill>
          <a:blip r:embed="rId1"/>
          <a:stretch/>
        </p:blipFill>
        <p:spPr>
          <a:xfrm>
            <a:off x="5148360" y="1447920"/>
            <a:ext cx="2728800" cy="4876560"/>
          </a:xfrm>
          <a:prstGeom prst="rect">
            <a:avLst/>
          </a:prstGeom>
          <a:ln w="0">
            <a:noFill/>
          </a:ln>
        </p:spPr>
      </p:pic>
      <p:pic>
        <p:nvPicPr>
          <p:cNvPr id="117" name="cunR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2730600" cy="487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. Belardo in Cuneiform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1828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ets pick some volunteers to see what their names would look like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6094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MESOPOTA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ient Mesopotamia was 300 miles long and 150 miles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2590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 was positioned between two rivers –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GR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UPH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esopotamia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45529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3808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819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mate in Mesopotamia ranges from cold season to season with temperatures higher than 11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gion had short periods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4572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828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most of Mesopotamia is located in the modern day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19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, which was once dominated by floods, is now all des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733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asonal flooding was a challenge to the farmers of Mesopotamia, they learned to control it and produced crops such as wheat, barley, sesame, flax, and fruits and veg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181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 that was once marshes and channels that provided food, protection, and life to the people there, no longer ex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4572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57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33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atural Resou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potamia was filled with silt and c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048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of Mesopotamia used silt and clay as well as reeds, palm trees, and mud to build their homes and te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952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y was also the foundation for all their writing tab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533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neiform Wri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uneiformorigin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3911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45720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ICTURES OF MESOPOTAMIAN CLAY TABL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00D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15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umerianpictotablet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8672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neareast07L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19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21:45:28Z</dcterms:created>
  <dc:creator> Rob</dc:creator>
  <dc:description/>
  <dc:language>en-US</dc:language>
  <cp:lastModifiedBy> Rob</cp:lastModifiedBy>
  <dcterms:modified xsi:type="dcterms:W3CDTF">2005-10-03T13:54:29Z</dcterms:modified>
  <cp:revision>2</cp:revision>
  <dc:subject/>
  <dc:title>MESOPOTAMIA</dc:title>
</cp:coreProperties>
</file>